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7519-B562-4CB1-9432-01C14F827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A09D-9882-46B3-BC18-0F4220F92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ADF-2870-44B6-B132-4F123CEF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564-053A-42FA-84B8-217CB63D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D20-0D00-456B-B91A-F002193C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EFF-F0C4-4DB5-8617-A0ABEE4D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52F-62FB-4C27-86BA-01928DB4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CA2-E0DC-478F-918E-649BF49D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9D6-2191-457C-847A-738365AF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423-A16C-4A8D-8FE0-0CDD02CE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26F-33AB-4137-9F5D-991CAA60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D19-F3AF-4C1C-ACF5-117C030F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0FC-557B-4392-ADC5-0C08EAB0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7C7-8F4A-4C28-9C09-873DB54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09C2-255F-4C1F-8CD5-A1E3CB061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s-framework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ming the Tower of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ftware Assurance Findings Expression Schema (SAFES)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n Barn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 June,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ential 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768320"/>
          <a:ext cx="8763120" cy="5089680"/>
        </p:xfrm>
        <a:graphic>
          <a:graphicData uri="http://schemas.openxmlformats.org/drawingml/2006/table">
            <a:tbl>
              <a:tblPr/>
              <a:tblGrid>
                <a:gridCol w="1298520"/>
                <a:gridCol w="746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vehicle of publication (IP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transforms to and from native sch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SAFES to a more stable and permanent 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comprehensive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uthoring/editing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report generation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a real project using SAF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more tools within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actor schema for efficiency and redundanc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alignment between SAFES and KDM, ARM, SAEM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e schema infrastructure (e.g. XMI compliant) for improved automation interchange and enabling framework lay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new tools outside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day’s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tandard reporting format for Sw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perspective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too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inefficient for tool vendors looking to integrate results with other tools (very costly and redunda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trend across assessments from different tools or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automate meta-analysis and the assessment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Framework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Assurance Findings Expression Schema (SAF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1 (v0.1) sponsored by the NSA Center for Assured Software (C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nd encourage consistency in software assurance tool and service 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more structured and effectively useful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integration of results from multiple software assurance tool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utomated processing of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from state of th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with state of the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comprehensive schema covering all aspects of software assurance analysi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e for usability, flexibility and 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e towards f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Initial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scope perspectives for initial effort (v0.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source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binary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application penet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ecur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z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endors actively collaborating others were passively incorp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3123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fi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tego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nalysi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o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c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876920" y="30481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, content &amp;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siness/mission and security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ssuranc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threa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57200" y="20574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S is a comprehensive and detaile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ampling of Potential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57400"/>
            <a:ext cx="3886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erstand the Business Context of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echnical risks to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he application attack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elevant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entory and characteriz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threa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FISMA security categorization (FIPS-1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Security Planning (SP800-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Risk Assessment (SP800-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uct multi-tool/multi-perspec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false pos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orit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4876920" y="2133720"/>
            <a:ext cx="38862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late fin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itch dynamic &amp; static location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 automated and manu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use common mitigation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ssessme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different versions of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an assurance case for a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n assurance case complianc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 CWE content into local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common finding trends across portfolio by technology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ain analysis accou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trends in tool and rule effic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 between various tool level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Maturation Paths Beyond v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S Maturation Pa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bility: primarily focused on efforts surrounding the schema to make it more usable by the community such as native transforms, tool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ment: primarily focused on improving the quality and coverage of the schema itself with activities such as adding new perspectives, adding new schemas, fixing erro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ization: primarily focused on gradually (as quickly as is prudent and accepted by the targeted user community) incorporating in formal standards-based approaches (vocabulary, structure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0.1 completed and now available on the SAFES webs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fes-framework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working with sponsor to finalize decision of next steps to pur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ng up new supporters/spo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various stakeholders in the community to support their use of SAFES and elicit their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04:33Z</dcterms:created>
  <dc:creator>Sean Barnum</dc:creator>
  <dc:description/>
  <dc:language>en-US</dc:language>
  <cp:lastModifiedBy>Administrator</cp:lastModifiedBy>
  <dcterms:modified xsi:type="dcterms:W3CDTF">2010-06-14T17:31:32Z</dcterms:modified>
  <cp:revision>2</cp:revision>
  <dc:subject/>
  <dc:title>Taming the Tower of Babel: Software Assurance Findings Expression Schema (SAFES) Framework </dc:title>
</cp:coreProperties>
</file>